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62D8-5228-4EFA-9A1E-79B0767A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9E2-5D40-4101-9F43-8FF2DE47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659-DAE4-445A-8F74-CB170F99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9DA1-F9C2-4DF2-BBD9-76D57087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D5F4-7867-4FAA-A7C1-3E2E254A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537-044E-4664-8AE8-21390250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8D38-6682-4A08-8E13-43C4C392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9875-CEF8-4A97-A618-AC125C3D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C87E-0E52-483F-8097-5EAB28AC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227-6681-4B81-AE2F-E4204F47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4C8-60C9-4338-821E-9F434C2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DD7-93CE-430A-8E72-9EBDC867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F3D-2A18-4A97-B0C3-87D9417C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688-0B16-4E23-9E92-5E046F4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3AC-2429-4EEE-AD1C-89E46586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6F6-62F2-45AF-BB92-9829111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DA0-DE23-421C-A1AA-0699B69D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968-67E7-423C-ACA8-D56ED20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032-D189-4F75-9AB7-4D648A7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61A-111C-4B97-B93A-553D2C93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E18-A523-4494-9D71-D8C7A05E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035-E897-4A54-B1CC-8E686F0A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391520" y="914400"/>
            <a:ext cx="1752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the proc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and label the types of energy being transferred for each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5840" y="838080"/>
            <a:ext cx="7451640" cy="5627880"/>
            <a:chOff x="15840" y="838080"/>
            <a:chExt cx="7451640" cy="5627880"/>
          </a:xfrm>
        </p:grpSpPr>
        <p:sp>
          <p:nvSpPr>
            <p:cNvPr id="70" name="Freeform 5"/>
            <p:cNvSpPr/>
            <p:nvPr/>
          </p:nvSpPr>
          <p:spPr>
            <a:xfrm>
              <a:off x="15840" y="4041720"/>
              <a:ext cx="7293600" cy="2424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>
              <a:off x="3505680" y="4696200"/>
              <a:ext cx="3961800" cy="213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7"/>
            <p:cNvGrpSpPr/>
            <p:nvPr/>
          </p:nvGrpSpPr>
          <p:grpSpPr>
            <a:xfrm>
              <a:off x="6496560" y="5324400"/>
              <a:ext cx="372600" cy="198360"/>
              <a:chOff x="6496560" y="5324400"/>
              <a:chExt cx="372600" cy="198360"/>
            </a:xfrm>
          </p:grpSpPr>
          <p:sp>
            <p:nvSpPr>
              <p:cNvPr id="73" name="Straight Connector 42"/>
              <p:cNvSpPr/>
              <p:nvPr/>
            </p:nvSpPr>
            <p:spPr>
              <a:xfrm flipH="1">
                <a:off x="6868800" y="5335560"/>
                <a:ext cx="36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3"/>
              <p:cNvSpPr/>
              <p:nvPr/>
            </p:nvSpPr>
            <p:spPr>
              <a:xfrm>
                <a:off x="6496560" y="5324400"/>
                <a:ext cx="372600" cy="1983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8"/>
            <p:cNvGrpSpPr/>
            <p:nvPr/>
          </p:nvGrpSpPr>
          <p:grpSpPr>
            <a:xfrm>
              <a:off x="6683400" y="5664240"/>
              <a:ext cx="372600" cy="198360"/>
              <a:chOff x="6683400" y="5664240"/>
              <a:chExt cx="372600" cy="198360"/>
            </a:xfrm>
          </p:grpSpPr>
          <p:sp>
            <p:nvSpPr>
              <p:cNvPr id="76" name="Straight Connector 40"/>
              <p:cNvSpPr/>
              <p:nvPr/>
            </p:nvSpPr>
            <p:spPr>
              <a:xfrm flipH="1">
                <a:off x="7055640" y="5675400"/>
                <a:ext cx="36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1"/>
              <p:cNvSpPr/>
              <p:nvPr/>
            </p:nvSpPr>
            <p:spPr>
              <a:xfrm>
                <a:off x="6683400" y="5664240"/>
                <a:ext cx="372600" cy="1983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9"/>
            <p:cNvGrpSpPr/>
            <p:nvPr/>
          </p:nvGrpSpPr>
          <p:grpSpPr>
            <a:xfrm>
              <a:off x="6935400" y="5125680"/>
              <a:ext cx="372600" cy="198360"/>
              <a:chOff x="6935400" y="5125680"/>
              <a:chExt cx="372600" cy="198360"/>
            </a:xfrm>
          </p:grpSpPr>
          <p:sp>
            <p:nvSpPr>
              <p:cNvPr id="79" name="Straight Connector 38"/>
              <p:cNvSpPr/>
              <p:nvPr/>
            </p:nvSpPr>
            <p:spPr>
              <a:xfrm flipH="1">
                <a:off x="7307640" y="5136840"/>
                <a:ext cx="36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6935400" y="5125680"/>
                <a:ext cx="372600" cy="1983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10"/>
            <p:cNvGrpSpPr/>
            <p:nvPr/>
          </p:nvGrpSpPr>
          <p:grpSpPr>
            <a:xfrm>
              <a:off x="1511280" y="3639240"/>
              <a:ext cx="369000" cy="555480"/>
              <a:chOff x="1511280" y="3639240"/>
              <a:chExt cx="369000" cy="555480"/>
            </a:xfrm>
          </p:grpSpPr>
          <p:sp>
            <p:nvSpPr>
              <p:cNvPr id="82" name="Straight Connector 35"/>
              <p:cNvSpPr/>
              <p:nvPr/>
            </p:nvSpPr>
            <p:spPr>
              <a:xfrm flipH="1">
                <a:off x="1755360" y="395676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Straight Connector 36"/>
              <p:cNvSpPr/>
              <p:nvPr/>
            </p:nvSpPr>
            <p:spPr>
              <a:xfrm flipH="1">
                <a:off x="1632600" y="395676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Cloud 37"/>
              <p:cNvSpPr/>
              <p:nvPr/>
            </p:nvSpPr>
            <p:spPr>
              <a:xfrm>
                <a:off x="1511280" y="363924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1075320" y="3700800"/>
              <a:ext cx="369000" cy="555480"/>
              <a:chOff x="1075320" y="3700800"/>
              <a:chExt cx="369000" cy="555480"/>
            </a:xfrm>
          </p:grpSpPr>
          <p:sp>
            <p:nvSpPr>
              <p:cNvPr id="86" name="Straight Connector 32"/>
              <p:cNvSpPr/>
              <p:nvPr/>
            </p:nvSpPr>
            <p:spPr>
              <a:xfrm flipH="1">
                <a:off x="1319400" y="401832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Straight Connector 33"/>
              <p:cNvSpPr/>
              <p:nvPr/>
            </p:nvSpPr>
            <p:spPr>
              <a:xfrm flipH="1">
                <a:off x="1196640" y="401832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Cloud 34"/>
              <p:cNvSpPr/>
              <p:nvPr/>
            </p:nvSpPr>
            <p:spPr>
              <a:xfrm>
                <a:off x="1075320" y="370080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12"/>
            <p:cNvGrpSpPr/>
            <p:nvPr/>
          </p:nvGrpSpPr>
          <p:grpSpPr>
            <a:xfrm>
              <a:off x="1571400" y="4194360"/>
              <a:ext cx="369000" cy="555480"/>
              <a:chOff x="1571400" y="4194360"/>
              <a:chExt cx="369000" cy="555480"/>
            </a:xfrm>
          </p:grpSpPr>
          <p:sp>
            <p:nvSpPr>
              <p:cNvPr id="90" name="Straight Connector 29"/>
              <p:cNvSpPr/>
              <p:nvPr/>
            </p:nvSpPr>
            <p:spPr>
              <a:xfrm flipH="1">
                <a:off x="1815480" y="451188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30"/>
              <p:cNvSpPr/>
              <p:nvPr/>
            </p:nvSpPr>
            <p:spPr>
              <a:xfrm flipH="1">
                <a:off x="1692720" y="451188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Cloud 31"/>
              <p:cNvSpPr/>
              <p:nvPr/>
            </p:nvSpPr>
            <p:spPr>
              <a:xfrm>
                <a:off x="1571400" y="419436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3"/>
            <p:cNvGrpSpPr/>
            <p:nvPr/>
          </p:nvGrpSpPr>
          <p:grpSpPr>
            <a:xfrm>
              <a:off x="1015200" y="4353840"/>
              <a:ext cx="369000" cy="555480"/>
              <a:chOff x="1015200" y="4353840"/>
              <a:chExt cx="369000" cy="555480"/>
            </a:xfrm>
          </p:grpSpPr>
          <p:sp>
            <p:nvSpPr>
              <p:cNvPr id="94" name="Straight Connector 26"/>
              <p:cNvSpPr/>
              <p:nvPr/>
            </p:nvSpPr>
            <p:spPr>
              <a:xfrm flipH="1">
                <a:off x="1259280" y="467136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Straight Connector 27"/>
              <p:cNvSpPr/>
              <p:nvPr/>
            </p:nvSpPr>
            <p:spPr>
              <a:xfrm flipH="1">
                <a:off x="1136520" y="467136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Cloud 28"/>
              <p:cNvSpPr/>
              <p:nvPr/>
            </p:nvSpPr>
            <p:spPr>
              <a:xfrm>
                <a:off x="1015200" y="435384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4"/>
            <p:cNvGrpSpPr/>
            <p:nvPr/>
          </p:nvGrpSpPr>
          <p:grpSpPr>
            <a:xfrm>
              <a:off x="2003400" y="3700080"/>
              <a:ext cx="369000" cy="555480"/>
              <a:chOff x="2003400" y="3700080"/>
              <a:chExt cx="369000" cy="555480"/>
            </a:xfrm>
          </p:grpSpPr>
          <p:sp>
            <p:nvSpPr>
              <p:cNvPr id="98" name="Straight Connector 23"/>
              <p:cNvSpPr/>
              <p:nvPr/>
            </p:nvSpPr>
            <p:spPr>
              <a:xfrm flipH="1">
                <a:off x="2247480" y="401760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Straight Connector 24"/>
              <p:cNvSpPr/>
              <p:nvPr/>
            </p:nvSpPr>
            <p:spPr>
              <a:xfrm flipH="1">
                <a:off x="2124720" y="401760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Cloud 25"/>
              <p:cNvSpPr/>
              <p:nvPr/>
            </p:nvSpPr>
            <p:spPr>
              <a:xfrm>
                <a:off x="2003400" y="370008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Cloud 15"/>
            <p:cNvSpPr/>
            <p:nvPr/>
          </p:nvSpPr>
          <p:spPr>
            <a:xfrm>
              <a:off x="919080" y="1261440"/>
              <a:ext cx="1184760" cy="63540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Cloud 16"/>
            <p:cNvSpPr/>
            <p:nvPr/>
          </p:nvSpPr>
          <p:spPr>
            <a:xfrm>
              <a:off x="2503800" y="1049760"/>
              <a:ext cx="1620360" cy="70596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Cloud 17"/>
            <p:cNvSpPr/>
            <p:nvPr/>
          </p:nvSpPr>
          <p:spPr>
            <a:xfrm>
              <a:off x="1755720" y="2073600"/>
              <a:ext cx="1558080" cy="3528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Sun 18"/>
            <p:cNvSpPr/>
            <p:nvPr/>
          </p:nvSpPr>
          <p:spPr>
            <a:xfrm>
              <a:off x="6188400" y="838080"/>
              <a:ext cx="747720" cy="847080"/>
            </a:xfrm>
            <a:prstGeom prst="sun">
              <a:avLst>
                <a:gd name="adj" fmla="val 25000"/>
              </a:avLst>
            </a:prstGeom>
            <a:solidFill>
              <a:srgbClr val="a6a6a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19"/>
            <p:cNvGrpSpPr/>
            <p:nvPr/>
          </p:nvGrpSpPr>
          <p:grpSpPr>
            <a:xfrm>
              <a:off x="646200" y="3978000"/>
              <a:ext cx="369000" cy="555480"/>
              <a:chOff x="646200" y="3978000"/>
              <a:chExt cx="369000" cy="555480"/>
            </a:xfrm>
          </p:grpSpPr>
          <p:sp>
            <p:nvSpPr>
              <p:cNvPr id="106" name="Straight Connector 20"/>
              <p:cNvSpPr/>
              <p:nvPr/>
            </p:nvSpPr>
            <p:spPr>
              <a:xfrm flipH="1">
                <a:off x="890280" y="429552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Straight Connector 21"/>
              <p:cNvSpPr/>
              <p:nvPr/>
            </p:nvSpPr>
            <p:spPr>
              <a:xfrm flipH="1">
                <a:off x="767520" y="429552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Cloud 22"/>
              <p:cNvSpPr/>
              <p:nvPr/>
            </p:nvSpPr>
            <p:spPr>
              <a:xfrm>
                <a:off x="646200" y="397800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1-01-12T20:52:31Z</dcterms:modified>
  <cp:revision>304</cp:revision>
  <dc:subject/>
  <dc:title>PowerPoint Presentation</dc:title>
</cp:coreProperties>
</file>